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5486400" cy="411480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4886280" cy="37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808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07536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30640" cy="48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dt" idx="1"/>
          </p:nvPr>
        </p:nvSpPr>
        <p:spPr>
          <a:xfrm>
            <a:off x="4398840" y="0"/>
            <a:ext cx="3230640" cy="48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ftr" idx="2"/>
          </p:nvPr>
        </p:nvSpPr>
        <p:spPr>
          <a:xfrm>
            <a:off x="0" y="9555120"/>
            <a:ext cx="3230640" cy="4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 type="sldNum" idx="3"/>
          </p:nvPr>
        </p:nvSpPr>
        <p:spPr>
          <a:xfrm>
            <a:off x="4398840" y="9555120"/>
            <a:ext cx="3230640" cy="4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1A294C-84E9-4560-A79D-EB32BDA5A7B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371600" y="763560"/>
            <a:ext cx="5000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07680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/>
          <p:nvPr/>
        </p:nvSpPr>
        <p:spPr>
          <a:xfrm>
            <a:off x="1311120" y="763560"/>
            <a:ext cx="5024520" cy="3768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07680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1371600" y="763560"/>
            <a:ext cx="490392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07680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/>
          <p:nvPr/>
        </p:nvSpPr>
        <p:spPr>
          <a:xfrm>
            <a:off x="1371600" y="763560"/>
            <a:ext cx="490392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07680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1371600" y="763560"/>
            <a:ext cx="490392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07680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/>
          <p:nvPr/>
        </p:nvSpPr>
        <p:spPr>
          <a:xfrm>
            <a:off x="1371600" y="763560"/>
            <a:ext cx="490392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07680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/>
          <p:nvPr/>
        </p:nvSpPr>
        <p:spPr>
          <a:xfrm>
            <a:off x="1371600" y="763560"/>
            <a:ext cx="490392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07680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/>
          <p:nvPr/>
        </p:nvSpPr>
        <p:spPr>
          <a:xfrm>
            <a:off x="1311120" y="763560"/>
            <a:ext cx="5024520" cy="3768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07680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1311120" y="763560"/>
            <a:ext cx="5024520" cy="3768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body"/>
          </p:nvPr>
        </p:nvSpPr>
        <p:spPr>
          <a:xfrm>
            <a:off x="777960" y="4772160"/>
            <a:ext cx="6076800" cy="453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/>
          <p:nvPr/>
        </p:nvSpPr>
        <p:spPr>
          <a:xfrm>
            <a:off x="1371600" y="763560"/>
            <a:ext cx="490392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07680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1371600" y="763560"/>
            <a:ext cx="4894200" cy="3765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07680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1371600" y="763560"/>
            <a:ext cx="490392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07680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1371600" y="763560"/>
            <a:ext cx="490392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07680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/>
          <p:nvPr/>
        </p:nvSpPr>
        <p:spPr>
          <a:xfrm>
            <a:off x="1371600" y="763560"/>
            <a:ext cx="490392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07680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1371600" y="763560"/>
            <a:ext cx="490392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07680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1371600" y="763560"/>
            <a:ext cx="4892760" cy="3765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07680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1311120" y="763560"/>
            <a:ext cx="5024520" cy="3768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07680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1311120" y="763560"/>
            <a:ext cx="5024520" cy="3768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07680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1311120" y="763560"/>
            <a:ext cx="5024520" cy="3768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07680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79080" y="-41400"/>
            <a:ext cx="47401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52080" y="843120"/>
            <a:ext cx="4746600" cy="126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72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52080" y="2224800"/>
            <a:ext cx="4746600" cy="126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72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79080" y="-41400"/>
            <a:ext cx="47401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52080" y="843120"/>
            <a:ext cx="2316240" cy="126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72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784600" y="843120"/>
            <a:ext cx="2316240" cy="126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72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52080" y="2224800"/>
            <a:ext cx="2316240" cy="126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72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2784600" y="2224800"/>
            <a:ext cx="2316240" cy="126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72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79080" y="-41400"/>
            <a:ext cx="47401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52080" y="843120"/>
            <a:ext cx="1528200" cy="126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72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956960" y="843120"/>
            <a:ext cx="1528200" cy="126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72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3562200" y="843120"/>
            <a:ext cx="1528200" cy="126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72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52080" y="2224800"/>
            <a:ext cx="1528200" cy="126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72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1956960" y="2224800"/>
            <a:ext cx="1528200" cy="126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72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3562200" y="2224800"/>
            <a:ext cx="1528200" cy="126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72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79080" y="-41400"/>
            <a:ext cx="47401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52080" y="843120"/>
            <a:ext cx="4746600" cy="26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ts val="6375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79080" y="-41400"/>
            <a:ext cx="47401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52080" y="843120"/>
            <a:ext cx="4746600" cy="26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72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79080" y="-41400"/>
            <a:ext cx="47401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52080" y="843120"/>
            <a:ext cx="2316240" cy="26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72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2784600" y="843120"/>
            <a:ext cx="2316240" cy="26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72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79080" y="-41400"/>
            <a:ext cx="47401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79080" y="-41400"/>
            <a:ext cx="47401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ts val="6375"/>
              </a:lnSpc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79080" y="-41400"/>
            <a:ext cx="47401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52080" y="843120"/>
            <a:ext cx="2316240" cy="126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72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2784600" y="843120"/>
            <a:ext cx="2316240" cy="26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72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52080" y="2224800"/>
            <a:ext cx="2316240" cy="126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72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79080" y="-41400"/>
            <a:ext cx="47401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52080" y="843120"/>
            <a:ext cx="2316240" cy="26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72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2784600" y="843120"/>
            <a:ext cx="2316240" cy="126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72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2784600" y="2224800"/>
            <a:ext cx="2316240" cy="126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72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79080" y="-41400"/>
            <a:ext cx="47401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52080" y="843120"/>
            <a:ext cx="2316240" cy="126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72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2784600" y="843120"/>
            <a:ext cx="2316240" cy="126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72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52080" y="2224800"/>
            <a:ext cx="4746600" cy="126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72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3673440"/>
            <a:ext cx="4479840" cy="265320"/>
          </a:xfrm>
          <a:prstGeom prst="roundRect">
            <a:avLst>
              <a:gd name="adj" fmla="val 255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379440" y="3679920"/>
            <a:ext cx="2176560" cy="258840"/>
          </a:xfrm>
          <a:prstGeom prst="roundRect">
            <a:avLst>
              <a:gd name="adj" fmla="val 255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ONE LAPTOP PER CHIL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79080" y="-41400"/>
            <a:ext cx="47401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808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52080" y="843120"/>
            <a:ext cx="4746600" cy="26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72000"/>
              </a:lnSpc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72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72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72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72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72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72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295920" y="3940200"/>
            <a:ext cx="2760840" cy="17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This works are licensed under a Creative Commons Attribution 2.5 License.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4325760" y="3649680"/>
            <a:ext cx="1143000" cy="338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iki.laptop.org/go/XO_Troubleshooting_Guide" TargetMode="External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lists.laptop.org/" TargetMode="External"/><Relationship Id="rId2" Type="http://schemas.openxmlformats.org/officeDocument/2006/relationships/hyperlink" Target="http://wiki.laptop.org/" TargetMode="Externa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iki.laptop.org/go/Releases" TargetMode="External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mailto:reuben@laptop.org" TargetMode="External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iki.laptop.org/go/Deployment_Guide" TargetMode="External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image" Target="../media/image3.wmf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image" Target="../media/image3.wmf"/><Relationship Id="rId8" Type="http://schemas.openxmlformats.org/officeDocument/2006/relationships/image" Target="../media/image3.wmf"/><Relationship Id="rId9" Type="http://schemas.openxmlformats.org/officeDocument/2006/relationships/image" Target="../media/image3.wmf"/><Relationship Id="rId10" Type="http://schemas.openxmlformats.org/officeDocument/2006/relationships/image" Target="../media/image3.wmf"/><Relationship Id="rId11" Type="http://schemas.openxmlformats.org/officeDocument/2006/relationships/image" Target="../media/image3.wmf"/><Relationship Id="rId12" Type="http://schemas.openxmlformats.org/officeDocument/2006/relationships/slideLayout" Target="../slideLayouts/slideLayout3.xml"/><Relationship Id="rId1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image" Target="../media/image3.wmf"/><Relationship Id="rId8" Type="http://schemas.openxmlformats.org/officeDocument/2006/relationships/image" Target="../media/image3.wmf"/><Relationship Id="rId9" Type="http://schemas.openxmlformats.org/officeDocument/2006/relationships/image" Target="../media/image3.wmf"/><Relationship Id="rId10" Type="http://schemas.openxmlformats.org/officeDocument/2006/relationships/image" Target="../media/image3.wmf"/><Relationship Id="rId11" Type="http://schemas.openxmlformats.org/officeDocument/2006/relationships/image" Target="../media/image3.wmf"/><Relationship Id="rId12" Type="http://schemas.openxmlformats.org/officeDocument/2006/relationships/image" Target="../media/image3.wmf"/><Relationship Id="rId13" Type="http://schemas.openxmlformats.org/officeDocument/2006/relationships/image" Target="../media/image4.wmf"/><Relationship Id="rId14" Type="http://schemas.openxmlformats.org/officeDocument/2006/relationships/image" Target="../media/image6.wmf"/><Relationship Id="rId15" Type="http://schemas.openxmlformats.org/officeDocument/2006/relationships/image" Target="../media/image5.wmf"/><Relationship Id="rId16" Type="http://schemas.openxmlformats.org/officeDocument/2006/relationships/image" Target="../media/image5.wmf"/><Relationship Id="rId17" Type="http://schemas.openxmlformats.org/officeDocument/2006/relationships/image" Target="../media/image5.wmf"/><Relationship Id="rId18" Type="http://schemas.openxmlformats.org/officeDocument/2006/relationships/slideLayout" Target="../slideLayouts/slideLayout3.xml"/><Relationship Id="rId19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79440" y="1609200"/>
            <a:ext cx="4819680" cy="4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8080"/>
                </a:solidFill>
                <a:latin typeface="Arial"/>
              </a:rPr>
              <a:t>One Laptop per Child</a:t>
            </a: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2895480"/>
            <a:ext cx="5486400" cy="762120"/>
          </a:xfrm>
          <a:prstGeom prst="roundRect">
            <a:avLst>
              <a:gd name="adj" fmla="val 171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untry Technical 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September 18, 2008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568440"/>
            <a:ext cx="5486400" cy="167328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1221120" y="1981080"/>
            <a:ext cx="307620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b3b3b3"/>
                </a:solidFill>
                <a:latin typeface="Arial"/>
              </a:rPr>
              <a:t>One Laptop per Chi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79440" y="125280"/>
            <a:ext cx="4757760" cy="5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8080"/>
                </a:solidFill>
                <a:latin typeface="Arial"/>
              </a:rPr>
              <a:t>Connectivity/Collaboration</a:t>
            </a: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764240" cy="264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-255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onnectivity with other XOs and Interne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imple mesh, up to 1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802.11b/g - via infrastructure access point, up to 20 X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ith ejabberd on school server, 30-40 laptops per access 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0520" indent="-255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ollaboration, typical session &lt;1 hou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at, 30-40 laptops can share a ch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rite, 2-3 laptops can collaborate on a Write docu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cord, 8-10 laptops can share Record photos (sharing video is not supported)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rowse, 30-40 laptops can share Browse lin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79440" y="90360"/>
            <a:ext cx="475776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ff8080"/>
                </a:solidFill>
                <a:latin typeface="Arial"/>
              </a:rPr>
              <a:t>Technology-Ongoing Phase</a:t>
            </a:r>
            <a:endParaRPr b="1" lang="en-US" sz="20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52440" y="842760"/>
            <a:ext cx="4764240" cy="266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-255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ost-Installation Sup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Help establish and train for local repair cent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rovide contacts, process, pricing for ordering spare par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rovide appropriate sysadmin, teacher training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54160" indent="-1080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onnectivity, Network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154160" indent="-1080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Upgrades, Backups, Power issu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154160" indent="-1080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Development, test and community gro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roblem tracking 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scalation system for OLPC bug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79440" y="76320"/>
            <a:ext cx="475776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8080"/>
                </a:solidFill>
                <a:latin typeface="Arial"/>
              </a:rPr>
              <a:t>Escalation for problem tracking</a:t>
            </a:r>
            <a:endParaRPr b="1" lang="en-US" sz="1800" spc="-1" strike="noStrike">
              <a:solidFill>
                <a:srgbClr val="ff8080"/>
              </a:solidFill>
              <a:latin typeface="Arial"/>
            </a:endParaRPr>
          </a:p>
        </p:txBody>
      </p:sp>
      <p:grpSp>
        <p:nvGrpSpPr>
          <p:cNvPr id="274" name=""/>
          <p:cNvGrpSpPr/>
          <p:nvPr/>
        </p:nvGrpSpPr>
        <p:grpSpPr>
          <a:xfrm>
            <a:off x="1600200" y="1219320"/>
            <a:ext cx="1066680" cy="900000"/>
            <a:chOff x="1600200" y="1219320"/>
            <a:chExt cx="1066680" cy="900000"/>
          </a:xfrm>
        </p:grpSpPr>
        <p:sp>
          <p:nvSpPr>
            <p:cNvPr id="275" name=""/>
            <p:cNvSpPr/>
            <p:nvPr/>
          </p:nvSpPr>
          <p:spPr>
            <a:xfrm>
              <a:off x="1600200" y="1219320"/>
              <a:ext cx="1066680" cy="685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ts val="36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600200" y="1295280"/>
              <a:ext cx="10666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FAQ</a:t>
              </a:r>
              <a:br>
                <a:rPr sz="1200"/>
              </a:b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Manuals</a:t>
              </a:r>
              <a:br>
                <a:rPr sz="1200"/>
              </a:b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Training M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7" name=""/>
          <p:cNvGrpSpPr/>
          <p:nvPr/>
        </p:nvGrpSpPr>
        <p:grpSpPr>
          <a:xfrm>
            <a:off x="1600200" y="2286000"/>
            <a:ext cx="1066680" cy="824040"/>
            <a:chOff x="1600200" y="2286000"/>
            <a:chExt cx="1066680" cy="824040"/>
          </a:xfrm>
        </p:grpSpPr>
        <p:sp>
          <p:nvSpPr>
            <p:cNvPr id="278" name=""/>
            <p:cNvSpPr/>
            <p:nvPr/>
          </p:nvSpPr>
          <p:spPr>
            <a:xfrm>
              <a:off x="1600200" y="2362320"/>
              <a:ext cx="1066680" cy="685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ts val="36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600200" y="2286000"/>
              <a:ext cx="10666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Problem tracking syste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0" name=""/>
          <p:cNvGrpSpPr/>
          <p:nvPr/>
        </p:nvGrpSpPr>
        <p:grpSpPr>
          <a:xfrm>
            <a:off x="3962520" y="2666880"/>
            <a:ext cx="1066680" cy="824040"/>
            <a:chOff x="3962520" y="2666880"/>
            <a:chExt cx="1066680" cy="824040"/>
          </a:xfrm>
        </p:grpSpPr>
        <p:sp>
          <p:nvSpPr>
            <p:cNvPr id="281" name=""/>
            <p:cNvSpPr/>
            <p:nvPr/>
          </p:nvSpPr>
          <p:spPr>
            <a:xfrm>
              <a:off x="3962520" y="2743200"/>
              <a:ext cx="1066680" cy="685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ts val="36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962520" y="2666880"/>
              <a:ext cx="10666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200" spc="-1" strike="noStrike">
                  <a:solidFill>
                    <a:srgbClr val="3333cc"/>
                  </a:solidFill>
                  <a:latin typeface="Arial"/>
                </a:rPr>
                <a:t>OLPC Problem Tracki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3" name=""/>
          <p:cNvSpPr/>
          <p:nvPr/>
        </p:nvSpPr>
        <p:spPr>
          <a:xfrm>
            <a:off x="152280" y="1752480"/>
            <a:ext cx="10670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each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dm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ud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133720" y="3200400"/>
            <a:ext cx="182880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038480" y="914400"/>
            <a:ext cx="11430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962520" y="990720"/>
            <a:ext cx="12952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3333cc"/>
                </a:solidFill>
                <a:latin typeface="Arial"/>
              </a:rPr>
              <a:t>FAQ</a:t>
            </a:r>
            <a:br>
              <a:rPr sz="1200"/>
            </a:br>
            <a:r>
              <a:rPr b="0" lang="en-GB" sz="1200" spc="-1" strike="noStrike">
                <a:solidFill>
                  <a:srgbClr val="3333cc"/>
                </a:solidFill>
                <a:latin typeface="Arial"/>
              </a:rPr>
              <a:t>Wiki Do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3333cc"/>
                </a:solidFill>
                <a:latin typeface="Arial"/>
              </a:rPr>
              <a:t>Release No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7" name=""/>
          <p:cNvGrpSpPr/>
          <p:nvPr/>
        </p:nvGrpSpPr>
        <p:grpSpPr>
          <a:xfrm>
            <a:off x="3505320" y="1828800"/>
            <a:ext cx="1218960" cy="685800"/>
            <a:chOff x="3505320" y="1828800"/>
            <a:chExt cx="1218960" cy="685800"/>
          </a:xfrm>
        </p:grpSpPr>
        <p:sp>
          <p:nvSpPr>
            <p:cNvPr id="288" name=""/>
            <p:cNvSpPr/>
            <p:nvPr/>
          </p:nvSpPr>
          <p:spPr>
            <a:xfrm>
              <a:off x="3581280" y="1828800"/>
              <a:ext cx="1067040" cy="685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ts val="36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505320" y="1981080"/>
              <a:ext cx="121896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200" spc="-1" strike="noStrike">
                  <a:solidFill>
                    <a:srgbClr val="3333cc"/>
                  </a:solidFill>
                  <a:latin typeface="Arial"/>
                </a:rPr>
                <a:t>Tra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ts val="106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000" spc="-1" strike="noStrike">
                  <a:solidFill>
                    <a:srgbClr val="3333cc"/>
                  </a:solidFill>
                  <a:latin typeface="Arial"/>
                </a:rPr>
                <a:t>(SW/HW bugs)</a:t>
              </a:r>
              <a:r>
                <a:rPr b="0" lang="en-GB" sz="1000" spc="-1" strike="noStrike">
                  <a:solidFill>
                    <a:srgbClr val="3333cc"/>
                  </a:solidFill>
                  <a:latin typeface="Arial"/>
                </a:rPr>
                <a:t>‏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0" name=""/>
          <p:cNvSpPr/>
          <p:nvPr/>
        </p:nvSpPr>
        <p:spPr>
          <a:xfrm flipV="1">
            <a:off x="2743200" y="1201680"/>
            <a:ext cx="1219320" cy="3398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4267080" y="2496600"/>
            <a:ext cx="1800" cy="26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4876920" y="1582200"/>
            <a:ext cx="1440" cy="117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2133720" y="3030120"/>
            <a:ext cx="1440" cy="18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200400" y="914400"/>
            <a:ext cx="1440" cy="251460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1066680" y="2133720"/>
            <a:ext cx="4572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1828800" y="3200400"/>
            <a:ext cx="1371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06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scalation path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06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LPC Tech Suppo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276720" y="838080"/>
            <a:ext cx="91440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463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3333cc"/>
                </a:solidFill>
                <a:latin typeface="Arial"/>
              </a:rPr>
              <a:t>OLP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057400" y="838080"/>
            <a:ext cx="114300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463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untry te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V="1">
            <a:off x="1066680" y="1506600"/>
            <a:ext cx="457200" cy="3398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133720" y="190512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79440" y="76320"/>
            <a:ext cx="475776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8080"/>
                </a:solidFill>
                <a:latin typeface="Arial"/>
              </a:rPr>
              <a:t>Tech Support - Countries</a:t>
            </a: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76424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-255600">
              <a:lnSpc>
                <a:spcPct val="98000"/>
              </a:lnSpc>
              <a:spcAft>
                <a:spcPts val="108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ountry’s Role for Tech Sup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28600">
              <a:lnSpc>
                <a:spcPct val="90000"/>
              </a:lnSpc>
              <a:spcAft>
                <a:spcPts val="751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reate localized FAQ (based on OLPC FAQ)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28600">
              <a:lnSpc>
                <a:spcPct val="90000"/>
              </a:lnSpc>
              <a:spcAft>
                <a:spcPts val="751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reate Network/IT documentation for country specific nee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28600">
              <a:lnSpc>
                <a:spcPct val="90000"/>
              </a:lnSpc>
              <a:spcAft>
                <a:spcPts val="751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uild a database for deployment and for problem trac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54160" indent="-108000">
              <a:lnSpc>
                <a:spcPct val="90000"/>
              </a:lnSpc>
              <a:spcAft>
                <a:spcPts val="624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Track which laptop goes to which scho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154160" indent="-108000">
              <a:lnSpc>
                <a:spcPct val="90000"/>
              </a:lnSpc>
              <a:spcAft>
                <a:spcPts val="624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Track laptops that have hw and sw proble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154160" indent="-108000">
              <a:lnSpc>
                <a:spcPct val="90000"/>
              </a:lnSpc>
              <a:spcAft>
                <a:spcPts val="624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Keep records of problems/resolutions to build knowledge 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28600">
              <a:lnSpc>
                <a:spcPct val="90000"/>
              </a:lnSpc>
              <a:spcAft>
                <a:spcPts val="751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vide local teachers/administrators with info on how to track probl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28600">
              <a:lnSpc>
                <a:spcPct val="90000"/>
              </a:lnSpc>
              <a:spcAft>
                <a:spcPts val="751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-Mail to OLPC for problems not resolved loca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79440" y="277920"/>
            <a:ext cx="4757760" cy="4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8080"/>
                </a:solidFill>
                <a:latin typeface="Arial"/>
              </a:rPr>
              <a:t>Tech Support - Countries</a:t>
            </a: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377640" y="914400"/>
            <a:ext cx="47638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-255600">
              <a:lnSpc>
                <a:spcPct val="98000"/>
              </a:lnSpc>
              <a:spcAft>
                <a:spcPts val="108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LPC Role for Tech Sup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28600">
              <a:lnSpc>
                <a:spcPct val="90000"/>
              </a:lnSpc>
              <a:spcAft>
                <a:spcPts val="87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rovide repair center ideas, guidelines, troubleshooting manuals and inform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28600">
              <a:lnSpc>
                <a:spcPct val="90000"/>
              </a:lnSpc>
              <a:spcAft>
                <a:spcPts val="87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ncourage use of problem tickets, local help centers, FAQ, documentation of 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28600">
              <a:lnSpc>
                <a:spcPct val="90000"/>
              </a:lnSpc>
              <a:spcAft>
                <a:spcPts val="87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ncourage the use of volunteers and local open source development resour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28600">
              <a:lnSpc>
                <a:spcPct val="90000"/>
              </a:lnSpc>
              <a:spcAft>
                <a:spcPts val="87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rovide information on customizing activities and content; localiz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28600">
              <a:lnSpc>
                <a:spcPct val="90000"/>
              </a:lnSpc>
              <a:spcAft>
                <a:spcPts val="87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rovide an Escalation path to OL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79440" y="-41400"/>
            <a:ext cx="4757760" cy="9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8080"/>
                </a:solidFill>
                <a:latin typeface="Arial"/>
              </a:rPr>
              <a:t>Hardware Support</a:t>
            </a: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52440" y="843120"/>
            <a:ext cx="4764240" cy="25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-255600">
              <a:lnSpc>
                <a:spcPct val="96000"/>
              </a:lnSpc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2280"/>
                <a:tab algn="l" pos="879480"/>
                <a:tab algn="l" pos="1336680"/>
                <a:tab algn="l" pos="1793880"/>
                <a:tab algn="l" pos="2251080"/>
                <a:tab algn="l" pos="2708280"/>
                <a:tab algn="l" pos="3165480"/>
                <a:tab algn="l" pos="3622680"/>
                <a:tab algn="l" pos="4079880"/>
                <a:tab algn="l" pos="4537080"/>
                <a:tab algn="l" pos="4994280"/>
                <a:tab algn="l" pos="5451480"/>
                <a:tab algn="l" pos="5908680"/>
                <a:tab algn="l" pos="6365880"/>
                <a:tab algn="l" pos="6823080"/>
                <a:tab algn="l" pos="7280280"/>
                <a:tab algn="l" pos="7737480"/>
                <a:tab algn="l" pos="8194680"/>
                <a:tab algn="l" pos="8651880"/>
                <a:tab algn="l" pos="9109080"/>
                <a:tab algn="l" pos="9112320"/>
                <a:tab algn="l" pos="9569520"/>
                <a:tab algn="l" pos="10026720"/>
                <a:tab algn="l" pos="10483920"/>
                <a:tab algn="l" pos="10487160"/>
                <a:tab algn="l" pos="10490040"/>
                <a:tab algn="l" pos="10493280"/>
                <a:tab algn="l" pos="10496520"/>
                <a:tab algn="l" pos="10499760"/>
                <a:tab algn="l" pos="10503000"/>
                <a:tab algn="l" pos="10506240"/>
                <a:tab algn="l" pos="10509120"/>
                <a:tab algn="l" pos="1051236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arranty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28600">
              <a:lnSpc>
                <a:spcPct val="96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22280"/>
                <a:tab algn="l" pos="879480"/>
                <a:tab algn="l" pos="1336680"/>
                <a:tab algn="l" pos="1793880"/>
                <a:tab algn="l" pos="2251080"/>
                <a:tab algn="l" pos="2708280"/>
                <a:tab algn="l" pos="3165480"/>
                <a:tab algn="l" pos="3622680"/>
                <a:tab algn="l" pos="4079880"/>
                <a:tab algn="l" pos="4537080"/>
                <a:tab algn="l" pos="4994280"/>
                <a:tab algn="l" pos="5451480"/>
                <a:tab algn="l" pos="5908680"/>
                <a:tab algn="l" pos="6365880"/>
                <a:tab algn="l" pos="6823080"/>
                <a:tab algn="l" pos="7280280"/>
                <a:tab algn="l" pos="7737480"/>
                <a:tab algn="l" pos="8194680"/>
                <a:tab algn="l" pos="8651880"/>
                <a:tab algn="l" pos="9109080"/>
                <a:tab algn="l" pos="9112320"/>
                <a:tab algn="l" pos="9569520"/>
                <a:tab algn="l" pos="10026720"/>
                <a:tab algn="l" pos="10483920"/>
                <a:tab algn="l" pos="10487160"/>
                <a:tab algn="l" pos="10490040"/>
                <a:tab algn="l" pos="10493280"/>
                <a:tab algn="l" pos="10496520"/>
                <a:tab algn="l" pos="10499760"/>
                <a:tab algn="l" pos="10503000"/>
                <a:tab algn="l" pos="10506240"/>
                <a:tab algn="l" pos="10509120"/>
                <a:tab algn="l" pos="1051236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dditional 1% shipped at no charge to cover 90 day breakage warran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28600">
              <a:lnSpc>
                <a:spcPct val="96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22280"/>
                <a:tab algn="l" pos="879480"/>
                <a:tab algn="l" pos="1336680"/>
                <a:tab algn="l" pos="1793880"/>
                <a:tab algn="l" pos="2251080"/>
                <a:tab algn="l" pos="2708280"/>
                <a:tab algn="l" pos="3165480"/>
                <a:tab algn="l" pos="3622680"/>
                <a:tab algn="l" pos="4079880"/>
                <a:tab algn="l" pos="4537080"/>
                <a:tab algn="l" pos="4994280"/>
                <a:tab algn="l" pos="5451480"/>
                <a:tab algn="l" pos="5908680"/>
                <a:tab algn="l" pos="6365880"/>
                <a:tab algn="l" pos="6823080"/>
                <a:tab algn="l" pos="7280280"/>
                <a:tab algn="l" pos="7737480"/>
                <a:tab algn="l" pos="8194680"/>
                <a:tab algn="l" pos="8651880"/>
                <a:tab algn="l" pos="9109080"/>
                <a:tab algn="l" pos="9112320"/>
                <a:tab algn="l" pos="9569520"/>
                <a:tab algn="l" pos="10026720"/>
                <a:tab algn="l" pos="10483920"/>
                <a:tab algn="l" pos="10487160"/>
                <a:tab algn="l" pos="10490040"/>
                <a:tab algn="l" pos="10493280"/>
                <a:tab algn="l" pos="10496520"/>
                <a:tab algn="l" pos="10499760"/>
                <a:tab algn="l" pos="10503000"/>
                <a:tab algn="l" pos="10506240"/>
                <a:tab algn="l" pos="10509120"/>
                <a:tab algn="l" pos="1051236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Use DOA (Dead on Arrival) XOs to seed spare parts for Repair Cent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0520" indent="-255600">
              <a:lnSpc>
                <a:spcPct val="96000"/>
              </a:lnSpc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2280"/>
                <a:tab algn="l" pos="879480"/>
                <a:tab algn="l" pos="1336680"/>
                <a:tab algn="l" pos="1793880"/>
                <a:tab algn="l" pos="2251080"/>
                <a:tab algn="l" pos="2708280"/>
                <a:tab algn="l" pos="3165480"/>
                <a:tab algn="l" pos="3622680"/>
                <a:tab algn="l" pos="4079880"/>
                <a:tab algn="l" pos="4537080"/>
                <a:tab algn="l" pos="4994280"/>
                <a:tab algn="l" pos="5451480"/>
                <a:tab algn="l" pos="5908680"/>
                <a:tab algn="l" pos="6365880"/>
                <a:tab algn="l" pos="6823080"/>
                <a:tab algn="l" pos="7280280"/>
                <a:tab algn="l" pos="7737480"/>
                <a:tab algn="l" pos="8194680"/>
                <a:tab algn="l" pos="8651880"/>
                <a:tab algn="l" pos="9109080"/>
                <a:tab algn="l" pos="9112320"/>
                <a:tab algn="l" pos="9569520"/>
                <a:tab algn="l" pos="10026720"/>
                <a:tab algn="l" pos="10483920"/>
                <a:tab algn="l" pos="10487160"/>
                <a:tab algn="l" pos="10490040"/>
                <a:tab algn="l" pos="10493280"/>
                <a:tab algn="l" pos="10496520"/>
                <a:tab algn="l" pos="10499760"/>
                <a:tab algn="l" pos="10503000"/>
                <a:tab algn="l" pos="10506240"/>
                <a:tab algn="l" pos="10509120"/>
                <a:tab algn="l" pos="1051236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sca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28600">
              <a:lnSpc>
                <a:spcPct val="81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22280"/>
                <a:tab algn="l" pos="879480"/>
                <a:tab algn="l" pos="1336680"/>
                <a:tab algn="l" pos="1793880"/>
                <a:tab algn="l" pos="2251080"/>
                <a:tab algn="l" pos="2708280"/>
                <a:tab algn="l" pos="3165480"/>
                <a:tab algn="l" pos="3622680"/>
                <a:tab algn="l" pos="4079880"/>
                <a:tab algn="l" pos="4537080"/>
                <a:tab algn="l" pos="4994280"/>
                <a:tab algn="l" pos="5451480"/>
                <a:tab algn="l" pos="5908680"/>
                <a:tab algn="l" pos="6365880"/>
                <a:tab algn="l" pos="6823080"/>
                <a:tab algn="l" pos="7280280"/>
                <a:tab algn="l" pos="7737480"/>
                <a:tab algn="l" pos="8194680"/>
                <a:tab algn="l" pos="8651880"/>
                <a:tab algn="l" pos="9109080"/>
                <a:tab algn="l" pos="9112320"/>
                <a:tab algn="l" pos="9569520"/>
                <a:tab algn="l" pos="10026720"/>
                <a:tab algn="l" pos="10483920"/>
                <a:tab algn="l" pos="10487160"/>
                <a:tab algn="l" pos="10490040"/>
                <a:tab algn="l" pos="10493280"/>
                <a:tab algn="l" pos="10496520"/>
                <a:tab algn="l" pos="10499760"/>
                <a:tab algn="l" pos="10503000"/>
                <a:tab algn="l" pos="10506240"/>
                <a:tab algn="l" pos="10509120"/>
                <a:tab algn="l" pos="1051236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ontact OLPC if &gt;1% failure ra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54160" indent="-108000">
              <a:lnSpc>
                <a:spcPct val="96000"/>
              </a:lnSpc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2280"/>
                <a:tab algn="l" pos="879480"/>
                <a:tab algn="l" pos="1336680"/>
                <a:tab algn="l" pos="1793880"/>
                <a:tab algn="l" pos="2251080"/>
                <a:tab algn="l" pos="2708280"/>
                <a:tab algn="l" pos="3165480"/>
                <a:tab algn="l" pos="3622680"/>
                <a:tab algn="l" pos="4079880"/>
                <a:tab algn="l" pos="4537080"/>
                <a:tab algn="l" pos="4994280"/>
                <a:tab algn="l" pos="5451480"/>
                <a:tab algn="l" pos="5908680"/>
                <a:tab algn="l" pos="6365880"/>
                <a:tab algn="l" pos="6823080"/>
                <a:tab algn="l" pos="7280280"/>
                <a:tab algn="l" pos="7737480"/>
                <a:tab algn="l" pos="8194680"/>
                <a:tab algn="l" pos="8651880"/>
                <a:tab algn="l" pos="9109080"/>
                <a:tab algn="l" pos="9112320"/>
                <a:tab algn="l" pos="9569520"/>
                <a:tab algn="l" pos="10026720"/>
                <a:tab algn="l" pos="10483920"/>
                <a:tab algn="l" pos="10487160"/>
                <a:tab algn="l" pos="10490040"/>
                <a:tab algn="l" pos="10493280"/>
                <a:tab algn="l" pos="10496520"/>
                <a:tab algn="l" pos="10499760"/>
                <a:tab algn="l" pos="10503000"/>
                <a:tab algn="l" pos="10506240"/>
                <a:tab algn="l" pos="10509120"/>
                <a:tab algn="l" pos="1051236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.e. previous batteries that did not char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379440" y="125280"/>
            <a:ext cx="4757760" cy="5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8080"/>
                </a:solidFill>
                <a:latin typeface="Arial"/>
              </a:rPr>
              <a:t>Hardware Support</a:t>
            </a: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4764240" cy="26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-255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epai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LPC supplies troubleshooting documentation (English)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54160" indent="-1080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wiki.laptop.org/go/XO_Troubleshooting_Gu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untry supplies local repair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54160" indent="-1080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udent Work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54160" indent="-1080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olunte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54160" indent="-1080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courage Small Busi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0520" indent="-255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pare Par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arge Deployments: &gt;10,000 XOs direct contact with manufacturer, i.e. batteries, displays, etc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maller Deployments: work with OLPC/Brightstar for ord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05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05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79440" y="125280"/>
            <a:ext cx="4757760" cy="5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8080"/>
                </a:solidFill>
                <a:latin typeface="Arial"/>
              </a:rPr>
              <a:t>Software Support</a:t>
            </a: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4764240" cy="249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-255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pen source softwa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lows/encourages contributions from many 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proprietary or licensing iss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formal support pro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lists.laptop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http://wiki.laptop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379440" y="2880"/>
            <a:ext cx="4757760" cy="83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8080"/>
                </a:solidFill>
                <a:latin typeface="Arial"/>
              </a:rPr>
              <a:t>Software Support</a:t>
            </a: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352440" y="843120"/>
            <a:ext cx="4764240" cy="25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-255600">
              <a:lnSpc>
                <a:spcPct val="86000"/>
              </a:lnSpc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LPC relea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28600">
              <a:lnSpc>
                <a:spcPct val="86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arget of 2 major releases per y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54160" indent="-108000">
              <a:lnSpc>
                <a:spcPct val="86000"/>
              </a:lnSpc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ntinue improvements in security, power management, collaboration, upgrada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28600">
              <a:lnSpc>
                <a:spcPct val="86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inor or patch rele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54160" indent="-108000">
              <a:lnSpc>
                <a:spcPct val="86000"/>
              </a:lnSpc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ddress urgent security iss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54160" indent="-108000">
              <a:lnSpc>
                <a:spcPct val="86000"/>
              </a:lnSpc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ritical bugs, Language/keyboard sup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28600">
              <a:lnSpc>
                <a:spcPct val="86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st Activities are developed outside of OLP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28600">
              <a:lnSpc>
                <a:spcPct val="86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wiki.laptop.org/go/Rele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0520" indent="0">
              <a:lnSpc>
                <a:spcPct val="86000"/>
              </a:lnSpc>
              <a:spcBef>
                <a:spcPts val="3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79080" y="2880"/>
            <a:ext cx="4748040" cy="82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8080"/>
                </a:solidFill>
                <a:latin typeface="Arial"/>
              </a:rPr>
              <a:t>Questions?</a:t>
            </a: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52080" y="842760"/>
            <a:ext cx="4754520" cy="256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-255600">
              <a:lnSpc>
                <a:spcPct val="81000"/>
              </a:lnSpc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tact me: </a:t>
            </a:r>
            <a:r>
              <a:rPr b="0" lang="en-GB" sz="18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reuben@laptop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0520" indent="-255600">
              <a:lnSpc>
                <a:spcPct val="81000"/>
              </a:lnSpc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untry Team Contact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28600">
              <a:lnSpc>
                <a:spcPct val="75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lpc-techsupport@laptop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79440" y="0"/>
            <a:ext cx="4757760" cy="9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8080"/>
                </a:solidFill>
                <a:latin typeface="Arial"/>
              </a:rPr>
              <a:t>Planning for Deployments</a:t>
            </a: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52440" y="1058760"/>
            <a:ext cx="4764240" cy="25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-255600">
              <a:lnSpc>
                <a:spcPct val="96000"/>
              </a:lnSpc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lanning in adv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28600">
              <a:lnSpc>
                <a:spcPct val="96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Establish Country Te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28600">
              <a:lnSpc>
                <a:spcPct val="96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maging and Choosing Cont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28600">
              <a:lnSpc>
                <a:spcPct val="96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rotocol for End User Suppor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0520" indent="-255600">
              <a:lnSpc>
                <a:spcPct val="92000"/>
              </a:lnSpc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eployment Gu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28600">
              <a:lnSpc>
                <a:spcPct val="92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wiki.laptop.org/go/Deployment_Gui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79440" y="90360"/>
            <a:ext cx="475776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ff8080"/>
                </a:solidFill>
                <a:latin typeface="Arial"/>
              </a:rPr>
              <a:t>Technology-Planning Phase</a:t>
            </a:r>
            <a:endParaRPr b="1" lang="en-US" sz="20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52440" y="842760"/>
            <a:ext cx="4764240" cy="266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-255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ctivities and Cont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28600">
              <a:lnSpc>
                <a:spcPct val="81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hoose and T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28600">
              <a:lnSpc>
                <a:spcPct val="81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rans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28600">
              <a:lnSpc>
                <a:spcPct val="81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Language and Keybo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0520" indent="-255600">
              <a:lnSpc>
                <a:spcPct val="81000"/>
              </a:lnSpc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o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28600">
              <a:lnSpc>
                <a:spcPct val="81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What is available in Schoo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28600">
              <a:lnSpc>
                <a:spcPct val="81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Equipment for Charg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79440" y="90360"/>
            <a:ext cx="475776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ff8080"/>
                </a:solidFill>
                <a:latin typeface="Arial"/>
              </a:rPr>
              <a:t>Technology Roll-out Phase</a:t>
            </a:r>
            <a:endParaRPr b="1" lang="en-US" sz="20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52440" y="842760"/>
            <a:ext cx="4764240" cy="266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-255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stallation and Upgr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28600">
              <a:lnSpc>
                <a:spcPct val="81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Be ready to upgrade and image all X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28600">
              <a:lnSpc>
                <a:spcPct val="81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USB Upgra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0520" indent="-255600">
              <a:lnSpc>
                <a:spcPct val="81000"/>
              </a:lnSpc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lan for upgrades after deploy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28600">
              <a:lnSpc>
                <a:spcPct val="81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chool 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28600">
              <a:lnSpc>
                <a:spcPct val="81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W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28600">
              <a:lnSpc>
                <a:spcPct val="81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USB Dr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79440" y="125280"/>
            <a:ext cx="4757760" cy="5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8080"/>
                </a:solidFill>
                <a:latin typeface="Arial"/>
              </a:rPr>
              <a:t>Security</a:t>
            </a: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52440" y="842760"/>
            <a:ext cx="4764240" cy="266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-255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re-Activated Laptop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No keys required, no process need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rrive in default condition; countries must specify need for Anti-the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0520" indent="-255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Un-Activated Laptops: Anti-theft in Delive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ecommended for &gt;5000 lapto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ctivation keys requi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eployment tech contacts must obtain activation keys and learn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mportant planning required at warehouse and at activation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79080" y="2880"/>
            <a:ext cx="4746600" cy="82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8080"/>
                </a:solidFill>
                <a:latin typeface="Arial"/>
              </a:rPr>
              <a:t>Connectivity</a:t>
            </a: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52080" y="842760"/>
            <a:ext cx="4753080" cy="25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-255600">
              <a:lnSpc>
                <a:spcPct val="78000"/>
              </a:lnSpc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28600">
              <a:lnSpc>
                <a:spcPct val="78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nfrastructure: Wired/Wirel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28600">
              <a:lnSpc>
                <a:spcPct val="78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F Environ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28600">
              <a:lnSpc>
                <a:spcPct val="78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cale: Number of XOs in class and scho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11120" y="192240"/>
            <a:ext cx="4664160" cy="46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8080"/>
                </a:solidFill>
                <a:latin typeface="Arial"/>
              </a:rPr>
              <a:t>XO under a tree</a:t>
            </a: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971800" y="914400"/>
            <a:ext cx="1325520" cy="1646280"/>
          </a:xfrm>
          <a:prstGeom prst="rect">
            <a:avLst/>
          </a:prstGeom>
          <a:ln w="0">
            <a:noFill/>
          </a:ln>
        </p:spPr>
      </p:pic>
      <p:grpSp>
        <p:nvGrpSpPr>
          <p:cNvPr id="154" name=""/>
          <p:cNvGrpSpPr/>
          <p:nvPr/>
        </p:nvGrpSpPr>
        <p:grpSpPr>
          <a:xfrm>
            <a:off x="4024440" y="1828800"/>
            <a:ext cx="595080" cy="565200"/>
            <a:chOff x="4024440" y="1828800"/>
            <a:chExt cx="595080" cy="565200"/>
          </a:xfrm>
        </p:grpSpPr>
        <p:pic>
          <p:nvPicPr>
            <p:cNvPr id="155" name="" descr=""/>
            <p:cNvPicPr/>
            <p:nvPr/>
          </p:nvPicPr>
          <p:blipFill>
            <a:blip r:embed="rId2"/>
            <a:stretch/>
          </p:blipFill>
          <p:spPr>
            <a:xfrm>
              <a:off x="4024440" y="1828800"/>
              <a:ext cx="593640" cy="56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"/>
            <p:cNvSpPr/>
            <p:nvPr/>
          </p:nvSpPr>
          <p:spPr>
            <a:xfrm>
              <a:off x="4470480" y="2085840"/>
              <a:ext cx="149040" cy="147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ts val="36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304920" y="1905120"/>
            <a:ext cx="595080" cy="565200"/>
            <a:chOff x="304920" y="1905120"/>
            <a:chExt cx="595080" cy="565200"/>
          </a:xfrm>
        </p:grpSpPr>
        <p:pic>
          <p:nvPicPr>
            <p:cNvPr id="158" name="" descr=""/>
            <p:cNvPicPr/>
            <p:nvPr/>
          </p:nvPicPr>
          <p:blipFill>
            <a:blip r:embed="rId3"/>
            <a:stretch/>
          </p:blipFill>
          <p:spPr>
            <a:xfrm>
              <a:off x="304920" y="1905120"/>
              <a:ext cx="595080" cy="56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750960" y="2162160"/>
              <a:ext cx="149040" cy="147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ts val="36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1828800" y="1949400"/>
            <a:ext cx="593640" cy="565200"/>
            <a:chOff x="1828800" y="1949400"/>
            <a:chExt cx="593640" cy="565200"/>
          </a:xfrm>
        </p:grpSpPr>
        <p:pic>
          <p:nvPicPr>
            <p:cNvPr id="161" name="" descr=""/>
            <p:cNvPicPr/>
            <p:nvPr/>
          </p:nvPicPr>
          <p:blipFill>
            <a:blip r:embed="rId4"/>
            <a:stretch/>
          </p:blipFill>
          <p:spPr>
            <a:xfrm>
              <a:off x="1828800" y="1949400"/>
              <a:ext cx="593640" cy="56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2273400" y="2206800"/>
              <a:ext cx="149040" cy="147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ts val="36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3932280" y="2468520"/>
            <a:ext cx="595440" cy="565200"/>
            <a:chOff x="3932280" y="2468520"/>
            <a:chExt cx="595440" cy="565200"/>
          </a:xfrm>
        </p:grpSpPr>
        <p:pic>
          <p:nvPicPr>
            <p:cNvPr id="164" name="" descr=""/>
            <p:cNvPicPr/>
            <p:nvPr/>
          </p:nvPicPr>
          <p:blipFill>
            <a:blip r:embed="rId5"/>
            <a:stretch/>
          </p:blipFill>
          <p:spPr>
            <a:xfrm>
              <a:off x="3932280" y="2468520"/>
              <a:ext cx="593640" cy="56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4378320" y="2725560"/>
              <a:ext cx="149400" cy="147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ts val="36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3246480" y="2606760"/>
            <a:ext cx="595440" cy="565200"/>
            <a:chOff x="3246480" y="2606760"/>
            <a:chExt cx="595440" cy="565200"/>
          </a:xfrm>
        </p:grpSpPr>
        <p:pic>
          <p:nvPicPr>
            <p:cNvPr id="167" name="" descr=""/>
            <p:cNvPicPr/>
            <p:nvPr/>
          </p:nvPicPr>
          <p:blipFill>
            <a:blip r:embed="rId6"/>
            <a:stretch/>
          </p:blipFill>
          <p:spPr>
            <a:xfrm>
              <a:off x="3246480" y="2606760"/>
              <a:ext cx="593640" cy="56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3692520" y="2863800"/>
              <a:ext cx="149400" cy="147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ts val="36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" name=""/>
          <p:cNvGrpSpPr/>
          <p:nvPr/>
        </p:nvGrpSpPr>
        <p:grpSpPr>
          <a:xfrm>
            <a:off x="4525920" y="2103480"/>
            <a:ext cx="595440" cy="565200"/>
            <a:chOff x="4525920" y="2103480"/>
            <a:chExt cx="595440" cy="565200"/>
          </a:xfrm>
        </p:grpSpPr>
        <p:pic>
          <p:nvPicPr>
            <p:cNvPr id="170" name="" descr=""/>
            <p:cNvPicPr/>
            <p:nvPr/>
          </p:nvPicPr>
          <p:blipFill>
            <a:blip r:embed="rId7"/>
            <a:stretch/>
          </p:blipFill>
          <p:spPr>
            <a:xfrm>
              <a:off x="4525920" y="2103480"/>
              <a:ext cx="595440" cy="56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"/>
            <p:cNvSpPr/>
            <p:nvPr/>
          </p:nvSpPr>
          <p:spPr>
            <a:xfrm>
              <a:off x="4971960" y="2360520"/>
              <a:ext cx="149400" cy="147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ts val="36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457200" y="914400"/>
            <a:ext cx="182880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720" rIns="54720" tIns="27360" bIns="2736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 to 10 laptops per mesh channel (3 channels) can collaborate with no wireless infrastructur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990720" y="2209680"/>
            <a:ext cx="685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514600" y="2286000"/>
            <a:ext cx="609480" cy="457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11120" y="200160"/>
            <a:ext cx="4664160" cy="46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8080"/>
                </a:solidFill>
                <a:latin typeface="Arial"/>
              </a:rPr>
              <a:t>XO with AP</a:t>
            </a: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914400" y="2057400"/>
            <a:ext cx="1050840" cy="7873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2201760" y="2384280"/>
            <a:ext cx="335160" cy="35892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2430360" y="2384280"/>
            <a:ext cx="549360" cy="16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720" rIns="54720" tIns="27360" bIns="2736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/Router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057400" y="2743200"/>
            <a:ext cx="262440" cy="1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720" rIns="54720" tIns="27360" bIns="27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H1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 flipV="1">
            <a:off x="1819080" y="2549160"/>
            <a:ext cx="399960" cy="81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3521160" y="914400"/>
            <a:ext cx="1508040" cy="565200"/>
            <a:chOff x="3521160" y="914400"/>
            <a:chExt cx="1508040" cy="565200"/>
          </a:xfrm>
        </p:grpSpPr>
        <p:grpSp>
          <p:nvGrpSpPr>
            <p:cNvPr id="182" name=""/>
            <p:cNvGrpSpPr/>
            <p:nvPr/>
          </p:nvGrpSpPr>
          <p:grpSpPr>
            <a:xfrm>
              <a:off x="3521160" y="914400"/>
              <a:ext cx="593640" cy="565200"/>
              <a:chOff x="3521160" y="914400"/>
              <a:chExt cx="593640" cy="565200"/>
            </a:xfrm>
          </p:grpSpPr>
          <p:pic>
            <p:nvPicPr>
              <p:cNvPr id="18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3521160" y="914400"/>
                <a:ext cx="5936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4" name=""/>
              <p:cNvSpPr/>
              <p:nvPr/>
            </p:nvSpPr>
            <p:spPr>
              <a:xfrm>
                <a:off x="3965400" y="1171440"/>
                <a:ext cx="149400" cy="147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ts val="36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" name=""/>
            <p:cNvGrpSpPr/>
            <p:nvPr/>
          </p:nvGrpSpPr>
          <p:grpSpPr>
            <a:xfrm>
              <a:off x="3978360" y="914400"/>
              <a:ext cx="593640" cy="565200"/>
              <a:chOff x="3978360" y="914400"/>
              <a:chExt cx="593640" cy="565200"/>
            </a:xfrm>
          </p:grpSpPr>
          <p:pic>
            <p:nvPicPr>
              <p:cNvPr id="186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978360" y="914400"/>
                <a:ext cx="5936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7" name=""/>
              <p:cNvSpPr/>
              <p:nvPr/>
            </p:nvSpPr>
            <p:spPr>
              <a:xfrm>
                <a:off x="4422600" y="1171440"/>
                <a:ext cx="149400" cy="147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ts val="36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8" name=""/>
            <p:cNvGrpSpPr/>
            <p:nvPr/>
          </p:nvGrpSpPr>
          <p:grpSpPr>
            <a:xfrm>
              <a:off x="4433760" y="914400"/>
              <a:ext cx="595440" cy="565200"/>
              <a:chOff x="4433760" y="914400"/>
              <a:chExt cx="595440" cy="565200"/>
            </a:xfrm>
          </p:grpSpPr>
          <p:pic>
            <p:nvPicPr>
              <p:cNvPr id="189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433760" y="914400"/>
                <a:ext cx="59400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0" name=""/>
              <p:cNvSpPr/>
              <p:nvPr/>
            </p:nvSpPr>
            <p:spPr>
              <a:xfrm>
                <a:off x="4879800" y="1171440"/>
                <a:ext cx="149400" cy="147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ts val="36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91" name=""/>
          <p:cNvGrpSpPr/>
          <p:nvPr/>
        </p:nvGrpSpPr>
        <p:grpSpPr>
          <a:xfrm>
            <a:off x="3490920" y="1477800"/>
            <a:ext cx="1508040" cy="565200"/>
            <a:chOff x="3490920" y="1477800"/>
            <a:chExt cx="1508040" cy="565200"/>
          </a:xfrm>
        </p:grpSpPr>
        <p:grpSp>
          <p:nvGrpSpPr>
            <p:cNvPr id="192" name=""/>
            <p:cNvGrpSpPr/>
            <p:nvPr/>
          </p:nvGrpSpPr>
          <p:grpSpPr>
            <a:xfrm>
              <a:off x="3490920" y="1477800"/>
              <a:ext cx="595440" cy="565200"/>
              <a:chOff x="3490920" y="1477800"/>
              <a:chExt cx="595440" cy="565200"/>
            </a:xfrm>
          </p:grpSpPr>
          <p:pic>
            <p:nvPicPr>
              <p:cNvPr id="193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3490920" y="1477800"/>
                <a:ext cx="5936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4" name=""/>
              <p:cNvSpPr/>
              <p:nvPr/>
            </p:nvSpPr>
            <p:spPr>
              <a:xfrm>
                <a:off x="3936960" y="1735200"/>
                <a:ext cx="149400" cy="147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ts val="36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5" name=""/>
            <p:cNvGrpSpPr/>
            <p:nvPr/>
          </p:nvGrpSpPr>
          <p:grpSpPr>
            <a:xfrm>
              <a:off x="3948120" y="1477800"/>
              <a:ext cx="593640" cy="565200"/>
              <a:chOff x="3948120" y="1477800"/>
              <a:chExt cx="593640" cy="565200"/>
            </a:xfrm>
          </p:grpSpPr>
          <p:pic>
            <p:nvPicPr>
              <p:cNvPr id="196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3948120" y="1477800"/>
                <a:ext cx="5936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7" name=""/>
              <p:cNvSpPr/>
              <p:nvPr/>
            </p:nvSpPr>
            <p:spPr>
              <a:xfrm>
                <a:off x="4392720" y="1735200"/>
                <a:ext cx="149040" cy="147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ts val="36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4405320" y="1477800"/>
              <a:ext cx="593640" cy="565200"/>
              <a:chOff x="4405320" y="1477800"/>
              <a:chExt cx="593640" cy="565200"/>
            </a:xfrm>
          </p:grpSpPr>
          <p:pic>
            <p:nvPicPr>
              <p:cNvPr id="199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4405320" y="1477800"/>
                <a:ext cx="5936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0" name=""/>
              <p:cNvSpPr/>
              <p:nvPr/>
            </p:nvSpPr>
            <p:spPr>
              <a:xfrm>
                <a:off x="4849920" y="1735200"/>
                <a:ext cx="149040" cy="147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ts val="36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01" name=""/>
          <p:cNvGrpSpPr/>
          <p:nvPr/>
        </p:nvGrpSpPr>
        <p:grpSpPr>
          <a:xfrm>
            <a:off x="3124080" y="1981080"/>
            <a:ext cx="1509840" cy="565200"/>
            <a:chOff x="3124080" y="1981080"/>
            <a:chExt cx="1509840" cy="565200"/>
          </a:xfrm>
        </p:grpSpPr>
        <p:grpSp>
          <p:nvGrpSpPr>
            <p:cNvPr id="202" name=""/>
            <p:cNvGrpSpPr/>
            <p:nvPr/>
          </p:nvGrpSpPr>
          <p:grpSpPr>
            <a:xfrm>
              <a:off x="3124080" y="1981080"/>
              <a:ext cx="595440" cy="565200"/>
              <a:chOff x="3124080" y="1981080"/>
              <a:chExt cx="595440" cy="565200"/>
            </a:xfrm>
          </p:grpSpPr>
          <p:pic>
            <p:nvPicPr>
              <p:cNvPr id="203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3124080" y="1981080"/>
                <a:ext cx="5954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4" name=""/>
              <p:cNvSpPr/>
              <p:nvPr/>
            </p:nvSpPr>
            <p:spPr>
              <a:xfrm>
                <a:off x="3570120" y="2238480"/>
                <a:ext cx="149400" cy="147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ts val="36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5" name=""/>
            <p:cNvGrpSpPr/>
            <p:nvPr/>
          </p:nvGrpSpPr>
          <p:grpSpPr>
            <a:xfrm>
              <a:off x="3581280" y="1981080"/>
              <a:ext cx="595440" cy="565200"/>
              <a:chOff x="3581280" y="1981080"/>
              <a:chExt cx="595440" cy="565200"/>
            </a:xfrm>
          </p:grpSpPr>
          <p:pic>
            <p:nvPicPr>
              <p:cNvPr id="206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3581280" y="1981080"/>
                <a:ext cx="5954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7" name=""/>
              <p:cNvSpPr/>
              <p:nvPr/>
            </p:nvSpPr>
            <p:spPr>
              <a:xfrm>
                <a:off x="4027320" y="2238480"/>
                <a:ext cx="149400" cy="147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ts val="36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8" name=""/>
            <p:cNvGrpSpPr/>
            <p:nvPr/>
          </p:nvGrpSpPr>
          <p:grpSpPr>
            <a:xfrm>
              <a:off x="4038480" y="1981080"/>
              <a:ext cx="595440" cy="565200"/>
              <a:chOff x="4038480" y="1981080"/>
              <a:chExt cx="595440" cy="565200"/>
            </a:xfrm>
          </p:grpSpPr>
          <p:pic>
            <p:nvPicPr>
              <p:cNvPr id="209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4038480" y="1981080"/>
                <a:ext cx="5954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0" name=""/>
              <p:cNvSpPr/>
              <p:nvPr/>
            </p:nvSpPr>
            <p:spPr>
              <a:xfrm>
                <a:off x="4484520" y="2238480"/>
                <a:ext cx="149400" cy="147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ts val="36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1" name=""/>
          <p:cNvSpPr/>
          <p:nvPr/>
        </p:nvSpPr>
        <p:spPr>
          <a:xfrm>
            <a:off x="0" y="914400"/>
            <a:ext cx="365760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720" rIns="54720" tIns="27360" bIns="2736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 to 20 Laptops / Access Poin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ore than 60 laptops and 3 Access Points requires site survey and carefully designed infrastructur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79440" y="125280"/>
            <a:ext cx="4757760" cy="5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8080"/>
                </a:solidFill>
                <a:latin typeface="Arial"/>
              </a:rPr>
              <a:t>XO with XS Server</a:t>
            </a: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568520" y="2179800"/>
            <a:ext cx="77796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720" rIns="54720" tIns="27360" bIns="2736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XS</a:t>
            </a:r>
            <a:br>
              <a:rPr sz="700"/>
            </a:br>
            <a:r>
              <a:rPr b="0" lang="en-GB" sz="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chool Server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1368000" y="1155600"/>
            <a:ext cx="173160" cy="26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1143000" y="2743200"/>
            <a:ext cx="1509840" cy="563400"/>
            <a:chOff x="1143000" y="2743200"/>
            <a:chExt cx="1509840" cy="563400"/>
          </a:xfrm>
        </p:grpSpPr>
        <p:grpSp>
          <p:nvGrpSpPr>
            <p:cNvPr id="216" name=""/>
            <p:cNvGrpSpPr/>
            <p:nvPr/>
          </p:nvGrpSpPr>
          <p:grpSpPr>
            <a:xfrm>
              <a:off x="1143000" y="2743200"/>
              <a:ext cx="595440" cy="563400"/>
              <a:chOff x="1143000" y="2743200"/>
              <a:chExt cx="595440" cy="563400"/>
            </a:xfrm>
          </p:grpSpPr>
          <p:pic>
            <p:nvPicPr>
              <p:cNvPr id="217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143000" y="2743200"/>
                <a:ext cx="595440" cy="563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8" name=""/>
              <p:cNvSpPr/>
              <p:nvPr/>
            </p:nvSpPr>
            <p:spPr>
              <a:xfrm>
                <a:off x="1589040" y="3000240"/>
                <a:ext cx="149400" cy="147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ts val="36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9" name=""/>
            <p:cNvGrpSpPr/>
            <p:nvPr/>
          </p:nvGrpSpPr>
          <p:grpSpPr>
            <a:xfrm>
              <a:off x="1600200" y="2743200"/>
              <a:ext cx="595440" cy="563400"/>
              <a:chOff x="1600200" y="2743200"/>
              <a:chExt cx="595440" cy="563400"/>
            </a:xfrm>
          </p:grpSpPr>
          <p:pic>
            <p:nvPicPr>
              <p:cNvPr id="220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600200" y="2743200"/>
                <a:ext cx="595440" cy="563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1" name=""/>
              <p:cNvSpPr/>
              <p:nvPr/>
            </p:nvSpPr>
            <p:spPr>
              <a:xfrm>
                <a:off x="2046240" y="3000240"/>
                <a:ext cx="149400" cy="147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ts val="36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2" name=""/>
            <p:cNvGrpSpPr/>
            <p:nvPr/>
          </p:nvGrpSpPr>
          <p:grpSpPr>
            <a:xfrm>
              <a:off x="2057400" y="2743200"/>
              <a:ext cx="595440" cy="563400"/>
              <a:chOff x="2057400" y="2743200"/>
              <a:chExt cx="595440" cy="563400"/>
            </a:xfrm>
          </p:grpSpPr>
          <p:pic>
            <p:nvPicPr>
              <p:cNvPr id="22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057400" y="2743200"/>
                <a:ext cx="595440" cy="563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4" name=""/>
              <p:cNvSpPr/>
              <p:nvPr/>
            </p:nvSpPr>
            <p:spPr>
              <a:xfrm>
                <a:off x="2503440" y="3000240"/>
                <a:ext cx="149400" cy="147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ts val="36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25" name=""/>
          <p:cNvGrpSpPr/>
          <p:nvPr/>
        </p:nvGrpSpPr>
        <p:grpSpPr>
          <a:xfrm>
            <a:off x="3549600" y="1630440"/>
            <a:ext cx="1509840" cy="565200"/>
            <a:chOff x="3549600" y="1630440"/>
            <a:chExt cx="1509840" cy="565200"/>
          </a:xfrm>
        </p:grpSpPr>
        <p:grpSp>
          <p:nvGrpSpPr>
            <p:cNvPr id="226" name=""/>
            <p:cNvGrpSpPr/>
            <p:nvPr/>
          </p:nvGrpSpPr>
          <p:grpSpPr>
            <a:xfrm>
              <a:off x="3549600" y="1630440"/>
              <a:ext cx="595440" cy="565200"/>
              <a:chOff x="3549600" y="1630440"/>
              <a:chExt cx="595440" cy="565200"/>
            </a:xfrm>
          </p:grpSpPr>
          <p:pic>
            <p:nvPicPr>
              <p:cNvPr id="22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549600" y="1630440"/>
                <a:ext cx="5954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8" name=""/>
              <p:cNvSpPr/>
              <p:nvPr/>
            </p:nvSpPr>
            <p:spPr>
              <a:xfrm>
                <a:off x="3995640" y="1887480"/>
                <a:ext cx="149400" cy="147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ts val="36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4006800" y="1630440"/>
              <a:ext cx="595440" cy="565200"/>
              <a:chOff x="4006800" y="1630440"/>
              <a:chExt cx="595440" cy="565200"/>
            </a:xfrm>
          </p:grpSpPr>
          <p:pic>
            <p:nvPicPr>
              <p:cNvPr id="23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006800" y="1630440"/>
                <a:ext cx="5954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1" name=""/>
              <p:cNvSpPr/>
              <p:nvPr/>
            </p:nvSpPr>
            <p:spPr>
              <a:xfrm>
                <a:off x="4452840" y="1887480"/>
                <a:ext cx="149400" cy="147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ts val="36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2" name=""/>
            <p:cNvGrpSpPr/>
            <p:nvPr/>
          </p:nvGrpSpPr>
          <p:grpSpPr>
            <a:xfrm>
              <a:off x="4464000" y="1630440"/>
              <a:ext cx="595440" cy="565200"/>
              <a:chOff x="4464000" y="1630440"/>
              <a:chExt cx="595440" cy="565200"/>
            </a:xfrm>
          </p:grpSpPr>
          <p:pic>
            <p:nvPicPr>
              <p:cNvPr id="233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464000" y="1630440"/>
                <a:ext cx="5954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4" name=""/>
              <p:cNvSpPr/>
              <p:nvPr/>
            </p:nvSpPr>
            <p:spPr>
              <a:xfrm>
                <a:off x="4910040" y="1887480"/>
                <a:ext cx="149400" cy="147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ts val="36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35" name=""/>
          <p:cNvGrpSpPr/>
          <p:nvPr/>
        </p:nvGrpSpPr>
        <p:grpSpPr>
          <a:xfrm>
            <a:off x="3505320" y="2224080"/>
            <a:ext cx="1508040" cy="565200"/>
            <a:chOff x="3505320" y="2224080"/>
            <a:chExt cx="1508040" cy="565200"/>
          </a:xfrm>
        </p:grpSpPr>
        <p:grpSp>
          <p:nvGrpSpPr>
            <p:cNvPr id="236" name=""/>
            <p:cNvGrpSpPr/>
            <p:nvPr/>
          </p:nvGrpSpPr>
          <p:grpSpPr>
            <a:xfrm>
              <a:off x="3505320" y="2224080"/>
              <a:ext cx="595080" cy="565200"/>
              <a:chOff x="3505320" y="2224080"/>
              <a:chExt cx="595080" cy="565200"/>
            </a:xfrm>
          </p:grpSpPr>
          <p:pic>
            <p:nvPicPr>
              <p:cNvPr id="23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3505320" y="2224080"/>
                <a:ext cx="5936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8" name=""/>
              <p:cNvSpPr/>
              <p:nvPr/>
            </p:nvSpPr>
            <p:spPr>
              <a:xfrm>
                <a:off x="3951360" y="2481120"/>
                <a:ext cx="149040" cy="1479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ts val="36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9" name=""/>
            <p:cNvGrpSpPr/>
            <p:nvPr/>
          </p:nvGrpSpPr>
          <p:grpSpPr>
            <a:xfrm>
              <a:off x="3962520" y="2224080"/>
              <a:ext cx="593640" cy="565200"/>
              <a:chOff x="3962520" y="2224080"/>
              <a:chExt cx="593640" cy="565200"/>
            </a:xfrm>
          </p:grpSpPr>
          <p:pic>
            <p:nvPicPr>
              <p:cNvPr id="24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3962520" y="2224080"/>
                <a:ext cx="5936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1" name=""/>
              <p:cNvSpPr/>
              <p:nvPr/>
            </p:nvSpPr>
            <p:spPr>
              <a:xfrm>
                <a:off x="4406760" y="2481120"/>
                <a:ext cx="149400" cy="1479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ts val="36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2" name=""/>
            <p:cNvGrpSpPr/>
            <p:nvPr/>
          </p:nvGrpSpPr>
          <p:grpSpPr>
            <a:xfrm>
              <a:off x="4419720" y="2224080"/>
              <a:ext cx="593640" cy="565200"/>
              <a:chOff x="4419720" y="2224080"/>
              <a:chExt cx="593640" cy="565200"/>
            </a:xfrm>
          </p:grpSpPr>
          <p:pic>
            <p:nvPicPr>
              <p:cNvPr id="243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4419720" y="2224080"/>
                <a:ext cx="5936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4" name=""/>
              <p:cNvSpPr/>
              <p:nvPr/>
            </p:nvSpPr>
            <p:spPr>
              <a:xfrm>
                <a:off x="4863960" y="2481120"/>
                <a:ext cx="149400" cy="1479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ts val="36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45" name=""/>
          <p:cNvGrpSpPr/>
          <p:nvPr/>
        </p:nvGrpSpPr>
        <p:grpSpPr>
          <a:xfrm>
            <a:off x="2971800" y="2863800"/>
            <a:ext cx="1508040" cy="565200"/>
            <a:chOff x="2971800" y="2863800"/>
            <a:chExt cx="1508040" cy="565200"/>
          </a:xfrm>
        </p:grpSpPr>
        <p:grpSp>
          <p:nvGrpSpPr>
            <p:cNvPr id="246" name=""/>
            <p:cNvGrpSpPr/>
            <p:nvPr/>
          </p:nvGrpSpPr>
          <p:grpSpPr>
            <a:xfrm>
              <a:off x="2971800" y="2863800"/>
              <a:ext cx="595440" cy="565200"/>
              <a:chOff x="2971800" y="2863800"/>
              <a:chExt cx="595440" cy="565200"/>
            </a:xfrm>
          </p:grpSpPr>
          <p:pic>
            <p:nvPicPr>
              <p:cNvPr id="247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971800" y="2863800"/>
                <a:ext cx="5936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8" name=""/>
              <p:cNvSpPr/>
              <p:nvPr/>
            </p:nvSpPr>
            <p:spPr>
              <a:xfrm>
                <a:off x="3417840" y="3121200"/>
                <a:ext cx="149400" cy="147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ts val="36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9" name=""/>
            <p:cNvGrpSpPr/>
            <p:nvPr/>
          </p:nvGrpSpPr>
          <p:grpSpPr>
            <a:xfrm>
              <a:off x="3429000" y="2863800"/>
              <a:ext cx="593640" cy="565200"/>
              <a:chOff x="3429000" y="2863800"/>
              <a:chExt cx="593640" cy="565200"/>
            </a:xfrm>
          </p:grpSpPr>
          <p:pic>
            <p:nvPicPr>
              <p:cNvPr id="250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3429000" y="2863800"/>
                <a:ext cx="5936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1" name=""/>
              <p:cNvSpPr/>
              <p:nvPr/>
            </p:nvSpPr>
            <p:spPr>
              <a:xfrm>
                <a:off x="3873600" y="3121200"/>
                <a:ext cx="149040" cy="147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ts val="36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2" name=""/>
            <p:cNvGrpSpPr/>
            <p:nvPr/>
          </p:nvGrpSpPr>
          <p:grpSpPr>
            <a:xfrm>
              <a:off x="3886200" y="2863800"/>
              <a:ext cx="593640" cy="565200"/>
              <a:chOff x="3886200" y="2863800"/>
              <a:chExt cx="593640" cy="565200"/>
            </a:xfrm>
          </p:grpSpPr>
          <p:pic>
            <p:nvPicPr>
              <p:cNvPr id="253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886200" y="2863800"/>
                <a:ext cx="5936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4" name=""/>
              <p:cNvSpPr/>
              <p:nvPr/>
            </p:nvSpPr>
            <p:spPr>
              <a:xfrm>
                <a:off x="4330800" y="3121200"/>
                <a:ext cx="149040" cy="147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ts val="36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255" name="" descr=""/>
          <p:cNvPicPr/>
          <p:nvPr/>
        </p:nvPicPr>
        <p:blipFill>
          <a:blip r:embed="rId13"/>
          <a:stretch/>
        </p:blipFill>
        <p:spPr>
          <a:xfrm>
            <a:off x="685800" y="1158840"/>
            <a:ext cx="1052640" cy="78588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14"/>
          <a:stretch/>
        </p:blipFill>
        <p:spPr>
          <a:xfrm>
            <a:off x="1752480" y="1676520"/>
            <a:ext cx="611280" cy="63972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15"/>
          <a:stretch/>
        </p:blipFill>
        <p:spPr>
          <a:xfrm>
            <a:off x="2529000" y="1173240"/>
            <a:ext cx="334800" cy="36036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16"/>
          <a:stretch/>
        </p:blipFill>
        <p:spPr>
          <a:xfrm>
            <a:off x="2849400" y="1676520"/>
            <a:ext cx="333360" cy="35856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17"/>
          <a:stretch/>
        </p:blipFill>
        <p:spPr>
          <a:xfrm>
            <a:off x="2666880" y="2179800"/>
            <a:ext cx="333360" cy="35856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 flipV="1">
            <a:off x="2163600" y="1476360"/>
            <a:ext cx="411480" cy="26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flipV="1">
            <a:off x="2209680" y="1887120"/>
            <a:ext cx="685800" cy="81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209680" y="2087640"/>
            <a:ext cx="547920" cy="27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757600" y="1173240"/>
            <a:ext cx="320400" cy="16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720" rIns="54720" tIns="27360" bIns="2736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482560" y="1494000"/>
            <a:ext cx="262440" cy="1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720" rIns="54720" tIns="27360" bIns="27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H1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803320" y="1996920"/>
            <a:ext cx="262440" cy="1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720" rIns="54720" tIns="27360" bIns="27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H6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574720" y="2500200"/>
            <a:ext cx="305280" cy="1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720" rIns="54720" tIns="27360" bIns="27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H11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 flipH="1" flipV="1">
            <a:off x="1506240" y="1522440"/>
            <a:ext cx="399960" cy="21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063960" y="620640"/>
            <a:ext cx="287964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720" rIns="54720" tIns="27360" bIns="2736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 to 30-40 laptops per AP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 to 300 laptops per school server.</a:t>
            </a:r>
            <a:br>
              <a:rPr sz="1100"/>
            </a:br>
            <a:r>
              <a:rPr b="0" lang="en-GB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quires RF site survey and carefully designed infrastructur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>Camrbridge, MA
April 23-27, 2007
</dc:description>
  <dc:language>en-US</dc:language>
  <cp:lastModifiedBy/>
  <cp:revision>0</cp:revision>
  <dc:subject/>
  <dc:title>One Laptop per Child</dc:title>
</cp:coreProperties>
</file>